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AC7-A92C-4418-A63D-3A0325A7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F96-F501-4870-8856-9F4059E0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6B2-E72D-4FAB-89EC-6233DDDD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372-4B2E-4C09-9DAB-F0A9DBCF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85AB-FB3E-4C0E-80A9-C3C46636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35A6-6697-4EE8-AE24-F4DA477A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39E5-54A9-4BE6-8AA1-38FA41F2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9005-1188-4636-85A7-13F97949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3661-FC33-4FB9-8623-D8779A6A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5CD-A3DF-433E-BBBA-8C447B20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1C02-33D9-4E4C-BAAB-8B787031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82E-CA7F-4183-96DF-671A938C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74FA-B287-4CFB-B9D0-4F0DEC7D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7D73-5D7F-4588-AC6A-D688018A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BEB5-F5B9-485B-B419-DA080C06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5D36-1A33-41B7-B3A9-C3D9528F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727D-C7C9-4B6D-89AF-AEB4612C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EBE-0DDF-418D-903A-E3F733F8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4D0-D746-441D-90BF-084EA7FB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243-166C-4DD3-99F6-1FCDAC8B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E05-53D2-4F5C-A5A9-DE1F6893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0DF-4FC3-4520-8CBA-CC176ED9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9A1-D045-403B-9E27-F8D47F2D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05F-44ED-4CB3-ADC1-FFCE5A6E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FEF5-A82C-4518-A752-06876214A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F92D-FB80-4E04-B1FA-1FF7BF093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4fc2"/>
                </a:solidFill>
                <a:latin typeface="Arial"/>
              </a:rPr>
              <a:t>Steps for Making and </a:t>
            </a:r>
            <a:br>
              <a:rPr sz="3600"/>
            </a:br>
            <a:r>
              <a:rPr b="0" lang="en-US" sz="3600" spc="-1" strike="noStrike">
                <a:solidFill>
                  <a:srgbClr val="5c4fc2"/>
                </a:solidFill>
                <a:latin typeface="Arial"/>
              </a:rPr>
              <a:t>Interpreting a Graph</a:t>
            </a:r>
            <a:r>
              <a:rPr b="0" lang="en-US" sz="3200" spc="-1" strike="noStrike">
                <a:solidFill>
                  <a:srgbClr val="5c4f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003480"/>
            <a:ext cx="147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819520" y="3117960"/>
            <a:ext cx="35240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23840" y="5335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066320" y="2286000"/>
            <a:ext cx="71629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The scale can be different for each axis. Once a scale is chosen, keep it consistent. Don’t start out using a scale of 5 units and then switch to 10 units when the data doesn’t 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5480" y="762120"/>
            <a:ext cx="65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8181"/>
                </a:solidFill>
                <a:latin typeface="Arial"/>
              </a:rPr>
              <a:t>1.Choose a scale for each ax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2.</a:t>
            </a:r>
            <a:r>
              <a:rPr b="0" lang="en-US" sz="4800" spc="-1" strike="noStrike">
                <a:solidFill>
                  <a:srgbClr val="81818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The format for the title of the graph is “</a:t>
            </a:r>
            <a:r>
              <a:rPr b="0" lang="en-US" sz="2800" spc="-1" strike="noStrike">
                <a:solidFill>
                  <a:srgbClr val="818181"/>
                </a:solidFill>
                <a:latin typeface="Arial"/>
                <a:ea typeface="ヒラギノ角ゴ ProN W3"/>
              </a:rPr>
              <a:t>y</a:t>
            </a: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axis </a:t>
            </a:r>
            <a:br>
              <a:rPr sz="2800"/>
            </a:b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     variable vs x-axis variable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38280" y="2185920"/>
            <a:ext cx="48769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1630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8181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81818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18181"/>
                </a:solidFill>
                <a:latin typeface="Arial"/>
              </a:rPr>
              <a:t>Determine</a:t>
            </a:r>
            <a:r>
              <a:rPr b="0" lang="en-US" sz="2400" spc="-1" strike="noStrike">
                <a:solidFill>
                  <a:srgbClr val="81818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18181"/>
                </a:solidFill>
                <a:latin typeface="Arial"/>
              </a:rPr>
              <a:t>the shape of the graph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859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18181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818181"/>
                </a:solidFill>
                <a:latin typeface="Arial"/>
              </a:rPr>
              <a:t>If the points are roughly in a straight line, draw the line of best fit. DON’T connect the dots! If the points form a curve, draw the best-fit cu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18181"/>
                </a:solidFill>
                <a:latin typeface="Arial"/>
              </a:rPr>
              <a:t>Possible Sh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bo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b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3372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19112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9588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33720" y="49528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4876920"/>
            <a:ext cx="990360" cy="68580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336"/>
                </a:moveTo>
                <a:cubicBezTo>
                  <a:pt x="84" y="324"/>
                  <a:pt x="168" y="312"/>
                  <a:pt x="240" y="288"/>
                </a:cubicBezTo>
                <a:cubicBezTo>
                  <a:pt x="312" y="264"/>
                  <a:pt x="368" y="240"/>
                  <a:pt x="432" y="192"/>
                </a:cubicBezTo>
                <a:cubicBezTo>
                  <a:pt x="496" y="144"/>
                  <a:pt x="560" y="72"/>
                  <a:pt x="6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4800600"/>
            <a:ext cx="635040" cy="609480"/>
          </a:xfrm>
          <a:custGeom>
            <a:avLst/>
            <a:gdLst/>
            <a:ahLst/>
            <a:rect l="l" t="t" r="r" b="b"/>
            <a:pathLst>
              <a:path w="400" h="384">
                <a:moveTo>
                  <a:pt x="16" y="0"/>
                </a:moveTo>
                <a:cubicBezTo>
                  <a:pt x="8" y="44"/>
                  <a:pt x="0" y="88"/>
                  <a:pt x="16" y="144"/>
                </a:cubicBezTo>
                <a:cubicBezTo>
                  <a:pt x="32" y="200"/>
                  <a:pt x="48" y="296"/>
                  <a:pt x="112" y="336"/>
                </a:cubicBezTo>
                <a:cubicBezTo>
                  <a:pt x="176" y="376"/>
                  <a:pt x="288" y="380"/>
                  <a:pt x="40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8181"/>
                </a:solidFill>
                <a:latin typeface="Arial"/>
              </a:rPr>
              <a:t>4. Interpreting the Graph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2209680"/>
          <a:ext cx="8110440" cy="3200400"/>
        </p:xfrm>
        <a:graphic>
          <a:graphicData uri="http://schemas.openxmlformats.org/drawingml/2006/table">
            <a:tbl>
              <a:tblPr/>
              <a:tblGrid>
                <a:gridCol w="2027160"/>
                <a:gridCol w="2028960"/>
                <a:gridCol w="2027160"/>
                <a:gridCol w="20271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Lin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Parabo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Hyperbo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Relation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” is directly related to “x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” is directly related to “x”</a:t>
                      </a:r>
                      <a:r>
                        <a:rPr b="0" lang="en-US" sz="2200" spc="-1" strike="noStrike" baseline="30000">
                          <a:solidFill>
                            <a:srgbClr val="818181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” is inversely related to “x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Eq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 = k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 = kx</a:t>
                      </a:r>
                      <a:r>
                        <a:rPr b="0" lang="en-US" sz="2800" spc="-1" strike="noStrike" baseline="30000">
                          <a:solidFill>
                            <a:srgbClr val="81818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 = k/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2:34:22Z</dcterms:created>
  <dc:creator>Parkland High School</dc:creator>
  <dc:description/>
  <dc:language>en-US</dc:language>
  <cp:lastModifiedBy>Parkland High School</cp:lastModifiedBy>
  <dcterms:modified xsi:type="dcterms:W3CDTF">2011-06-10T13:50:46Z</dcterms:modified>
  <cp:revision>8</cp:revision>
  <dc:subject/>
  <dc:title>  STEPS TO FOLLOW WHEN GRAPHING </dc:title>
</cp:coreProperties>
</file>